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PSC401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4.jpeg" ContentType="image/jpeg"/>
  <Override PartName="/ppt/media/PSC402.wav" ContentType="audio/x-wav"/>
  <Override PartName="/ppt/media/PSC404.wav" ContentType="audio/x-wav"/>
  <Override PartName="/ppt/media/image13.jpeg" ContentType="image/jpeg"/>
  <Override PartName="/ppt/media/PSC403.wav" ContentType="audio/x-wav"/>
  <Override PartName="/ppt/media/image2.jpeg" ContentType="image/jpeg"/>
  <Override PartName="/ppt/media/image3.png" ContentType="image/png"/>
  <Override PartName="/ppt/media/image12.jpeg" ContentType="image/jpeg"/>
  <Override PartName="/ppt/media/testdev.wav" ContentType="audio/x-wav"/>
  <Override PartName="/ppt/media/image1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550400" cy="7164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7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7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7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E0DA7-F7B8-4F13-8330-DF1D1E2B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BB28A-4177-4F38-8A76-6524FDDB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CB2EE-1F5F-41DC-8664-48B7C314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C1011-C805-4AB9-AC58-536B341A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6E073-D59E-4AA8-AE5A-2D555772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37800" y="-14400"/>
            <a:ext cx="81183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A79F9-0C97-4D8C-9EB0-88EFD5D7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29331-AE95-42BE-9B62-3358B20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04A1E-8381-4217-9D39-39CAB2B5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957F1-B347-4C15-B3E0-5631CA77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6E5CC-AA95-4873-9D37-723AE55D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922A0-E9CD-455F-B20C-6BB00880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7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2920" y="153180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7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7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2920" y="3967920"/>
            <a:ext cx="26139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88FF8-EEE7-4A2D-8D61-74E689E2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7800" y="-14400"/>
            <a:ext cx="81183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2720" y="396792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29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720" y="1531800"/>
            <a:ext cx="396144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72920" y="3967920"/>
            <a:ext cx="8118360" cy="222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760" indent="-237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040" y="6526080"/>
            <a:ext cx="1990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1960" y="6526080"/>
            <a:ext cx="3025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第二页"/>
          <p:cNvPicPr/>
          <p:nvPr/>
        </p:nvPicPr>
        <p:blipFill>
          <a:blip r:embed="rId3"/>
          <a:stretch/>
        </p:blipFill>
        <p:spPr>
          <a:xfrm>
            <a:off x="0" y="0"/>
            <a:ext cx="9550440" cy="7162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72920" y="1531800"/>
            <a:ext cx="8118360" cy="4664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760" indent="-237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956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716040" y="6526080"/>
            <a:ext cx="1990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261960" y="6526080"/>
            <a:ext cx="3025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843600" y="6526080"/>
            <a:ext cx="1990800" cy="478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3576-BCAF-484A-989B-0570701DECA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audio" Target="../media/testdev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audio" Target="../media/PSC401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audio" Target="../media/PSC40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audio" Target="../media/PSC403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audio" Target="../media/PSC404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520" y="2141640"/>
            <a:ext cx="8764560" cy="2574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0" algn="ctr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普通话水平智能测试考生测试指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4" descr="QQ截图20160825191315.png"/>
          <p:cNvPicPr/>
          <p:nvPr/>
        </p:nvPicPr>
        <p:blipFill>
          <a:blip r:embed="rId1"/>
          <a:stretch/>
        </p:blipFill>
        <p:spPr>
          <a:xfrm>
            <a:off x="5533920" y="6138720"/>
            <a:ext cx="4016520" cy="8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后挂式耳麦佩戴图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侧面戴耳麦"/>
          <p:cNvPicPr/>
          <p:nvPr/>
        </p:nvPicPr>
        <p:blipFill>
          <a:blip r:embed="rId1"/>
          <a:stretch/>
        </p:blipFill>
        <p:spPr>
          <a:xfrm>
            <a:off x="871560" y="1838160"/>
            <a:ext cx="4734000" cy="426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正面带耳麦"/>
          <p:cNvPicPr/>
          <p:nvPr/>
        </p:nvPicPr>
        <p:blipFill>
          <a:blip r:embed="rId2"/>
          <a:stretch/>
        </p:blipFill>
        <p:spPr>
          <a:xfrm>
            <a:off x="4513320" y="1641600"/>
            <a:ext cx="4537080" cy="4468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5" descr="QQ截图20160825191315.png"/>
          <p:cNvPicPr/>
          <p:nvPr/>
        </p:nvPicPr>
        <p:blipFill>
          <a:blip r:embed="rId3"/>
          <a:stretch/>
        </p:blipFill>
        <p:spPr>
          <a:xfrm>
            <a:off x="5616720" y="6219720"/>
            <a:ext cx="3933720" cy="9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步：登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03440" y="1760040"/>
            <a:ext cx="8021520" cy="4094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屏幕出现登陆界面后，考生填入自己的准考证号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准考证号的前几位系统会自动显示，考生只需填写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最后四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填写完成后，点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进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登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图片 3" descr="QQ截图20160825191315.png"/>
          <p:cNvPicPr/>
          <p:nvPr/>
        </p:nvPicPr>
        <p:blipFill>
          <a:blip r:embed="rId1"/>
          <a:stretch/>
        </p:blipFill>
        <p:spPr>
          <a:xfrm>
            <a:off x="5521320" y="6199200"/>
            <a:ext cx="4029120" cy="7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考生登录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1"/>
          <p:cNvPicPr/>
          <p:nvPr/>
        </p:nvPicPr>
        <p:blipFill>
          <a:blip r:embed="rId1"/>
          <a:stretch/>
        </p:blipFill>
        <p:spPr>
          <a:xfrm>
            <a:off x="914400" y="1557360"/>
            <a:ext cx="7542360" cy="48322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4" descr="QQ截图20160825191315.png"/>
          <p:cNvPicPr/>
          <p:nvPr/>
        </p:nvPicPr>
        <p:blipFill>
          <a:blip r:embed="rId2"/>
          <a:stretch/>
        </p:blipFill>
        <p:spPr>
          <a:xfrm>
            <a:off x="5794200" y="6483240"/>
            <a:ext cx="3756240" cy="6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三步：核对个人信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95240" y="1576440"/>
            <a:ext cx="7997760" cy="441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登录成功后，考试机屏幕上会显示考生个人信息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认真核对所显示信息是否与自己相符，核对无误后，单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确认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继续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对时若发现错误，可以点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返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重新登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图片 3" descr="QQ截图20160825191315.png"/>
          <p:cNvPicPr/>
          <p:nvPr/>
        </p:nvPicPr>
        <p:blipFill>
          <a:blip r:embed="rId1"/>
          <a:stretch/>
        </p:blipFill>
        <p:spPr>
          <a:xfrm>
            <a:off x="5378400" y="597852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核对个人信息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2"/>
          <p:cNvPicPr/>
          <p:nvPr/>
        </p:nvPicPr>
        <p:blipFill>
          <a:blip r:embed="rId1"/>
          <a:stretch/>
        </p:blipFill>
        <p:spPr>
          <a:xfrm>
            <a:off x="982800" y="1415880"/>
            <a:ext cx="7610400" cy="51055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4" descr="QQ截图20160825191315.png"/>
          <p:cNvPicPr/>
          <p:nvPr/>
        </p:nvPicPr>
        <p:blipFill>
          <a:blip r:embed="rId2"/>
          <a:stretch/>
        </p:blipFill>
        <p:spPr>
          <a:xfrm>
            <a:off x="6080040" y="6531120"/>
            <a:ext cx="3470400" cy="6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四步：试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15680" y="1762200"/>
            <a:ext cx="7932600" cy="441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试音页面后，考生会听到系统的提示语，提示语结束后，请以适中的音量和语速朗读文本框中的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个人信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进行试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若试音失败，请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提高朗读音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重新进行试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图片 4" descr="QQ截图20160825191315.png"/>
          <p:cNvPicPr/>
          <p:nvPr/>
        </p:nvPicPr>
        <p:blipFill>
          <a:blip r:embed="rId1"/>
          <a:stretch/>
        </p:blipFill>
        <p:spPr>
          <a:xfrm>
            <a:off x="5735520" y="6016680"/>
            <a:ext cx="381492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考生试音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5"/>
          <p:cNvPicPr/>
          <p:nvPr/>
        </p:nvPicPr>
        <p:blipFill>
          <a:blip r:embed="rId1"/>
          <a:stretch/>
        </p:blipFill>
        <p:spPr>
          <a:xfrm>
            <a:off x="957240" y="1281240"/>
            <a:ext cx="7612200" cy="52354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4" descr="QQ截图20160825191315.png"/>
          <p:cNvPicPr/>
          <p:nvPr/>
        </p:nvPicPr>
        <p:blipFill>
          <a:blip r:embed="rId2"/>
          <a:stretch/>
        </p:blipFill>
        <p:spPr>
          <a:xfrm>
            <a:off x="6021360" y="6496200"/>
            <a:ext cx="352908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stdev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五步：测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03080" y="1576080"/>
            <a:ext cx="8102520" cy="500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开始时，每一题都会有语音提示，请在语音提示结束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听到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嘟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”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的一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后再开始朗读试题内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时第一题、第二题试题要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横向朗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朗读试题时注意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漏行、错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每项试题后请立即点击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右下角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下一题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钮，防止录入太多空白音影响成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朗读过程中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说与试题内容无关的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有问题请举手示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图片 4" descr="QQ截图20160825191315.png"/>
          <p:cNvPicPr/>
          <p:nvPr/>
        </p:nvPicPr>
        <p:blipFill>
          <a:blip r:embed="rId1"/>
          <a:stretch/>
        </p:blipFill>
        <p:spPr>
          <a:xfrm>
            <a:off x="6021360" y="6316560"/>
            <a:ext cx="3529080" cy="8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题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6"/>
          <p:cNvPicPr/>
          <p:nvPr/>
        </p:nvPicPr>
        <p:blipFill>
          <a:blip r:embed="rId1"/>
          <a:stretch/>
        </p:blipFill>
        <p:spPr>
          <a:xfrm>
            <a:off x="824040" y="1332000"/>
            <a:ext cx="7989840" cy="51400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" descr="QQ截图20160825191315.png"/>
          <p:cNvPicPr/>
          <p:nvPr/>
        </p:nvPicPr>
        <p:blipFill>
          <a:blip r:embed="rId2"/>
          <a:stretch/>
        </p:blipFill>
        <p:spPr>
          <a:xfrm>
            <a:off x="6056280" y="6435720"/>
            <a:ext cx="3494160" cy="7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SC4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题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7"/>
          <p:cNvPicPr/>
          <p:nvPr/>
        </p:nvPicPr>
        <p:blipFill>
          <a:blip r:embed="rId1"/>
          <a:stretch/>
        </p:blipFill>
        <p:spPr>
          <a:xfrm>
            <a:off x="914400" y="1352520"/>
            <a:ext cx="7842240" cy="515160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4" descr="QQ截图20160825191315.png"/>
          <p:cNvPicPr/>
          <p:nvPr/>
        </p:nvPicPr>
        <p:blipFill>
          <a:blip r:embed="rId2"/>
          <a:stretch/>
        </p:blipFill>
        <p:spPr>
          <a:xfrm>
            <a:off x="6045120" y="6496200"/>
            <a:ext cx="350532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SC4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292400" y="2225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285920" y="221472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330200" y="225432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0076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1895400" y="2824200"/>
            <a:ext cx="5911920" cy="468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341440" y="2166840"/>
            <a:ext cx="56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测试流程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474560" y="231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292400" y="349740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1285920" y="348624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1330200" y="352584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862280" y="409572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367000" y="343836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机测试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474560" y="35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292400" y="4754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1285920" y="474336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330200" y="4782960"/>
            <a:ext cx="663840" cy="574920"/>
          </a:xfrm>
          <a:prstGeom prst="hexagon">
            <a:avLst>
              <a:gd name="adj" fmla="val 28867"/>
              <a:gd name="vf" fmla="val 115470"/>
            </a:avLst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1862280" y="535320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367000" y="469584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试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474560" y="4842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20" descr="QQ截图20160825191315.png"/>
          <p:cNvPicPr/>
          <p:nvPr/>
        </p:nvPicPr>
        <p:blipFill>
          <a:blip r:embed="rId1"/>
          <a:stretch/>
        </p:blipFill>
        <p:spPr>
          <a:xfrm>
            <a:off x="6021360" y="6222960"/>
            <a:ext cx="3529080" cy="7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三题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8"/>
          <p:cNvPicPr/>
          <p:nvPr/>
        </p:nvPicPr>
        <p:blipFill>
          <a:blip r:embed="rId1"/>
          <a:stretch/>
        </p:blipFill>
        <p:spPr>
          <a:xfrm>
            <a:off x="914400" y="1374840"/>
            <a:ext cx="7750080" cy="507348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" descr="QQ截图20160825191315.png"/>
          <p:cNvPicPr/>
          <p:nvPr/>
        </p:nvPicPr>
        <p:blipFill>
          <a:blip r:embed="rId2"/>
          <a:stretch/>
        </p:blipFill>
        <p:spPr>
          <a:xfrm>
            <a:off x="6021360" y="6356520"/>
            <a:ext cx="3529080" cy="8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SC4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第四题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9"/>
          <p:cNvPicPr/>
          <p:nvPr/>
        </p:nvPicPr>
        <p:blipFill>
          <a:blip r:embed="rId1"/>
          <a:stretch/>
        </p:blipFill>
        <p:spPr>
          <a:xfrm>
            <a:off x="930240" y="1373040"/>
            <a:ext cx="7764480" cy="51530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4" descr="QQ截图20160825191315.png"/>
          <p:cNvPicPr/>
          <p:nvPr/>
        </p:nvPicPr>
        <p:blipFill>
          <a:blip r:embed="rId2"/>
          <a:stretch/>
        </p:blipFill>
        <p:spPr>
          <a:xfrm>
            <a:off x="6080040" y="6450120"/>
            <a:ext cx="347040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SC4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考试结束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10"/>
          <p:cNvPicPr/>
          <p:nvPr/>
        </p:nvPicPr>
        <p:blipFill>
          <a:blip r:embed="rId1"/>
          <a:stretch/>
        </p:blipFill>
        <p:spPr>
          <a:xfrm>
            <a:off x="1596960" y="1890720"/>
            <a:ext cx="6478560" cy="43178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" descr="QQ截图20160825191315.png"/>
          <p:cNvPicPr/>
          <p:nvPr/>
        </p:nvPicPr>
        <p:blipFill>
          <a:blip r:embed="rId2"/>
          <a:stretch/>
        </p:blipFill>
        <p:spPr>
          <a:xfrm>
            <a:off x="5653080" y="6318360"/>
            <a:ext cx="3897360" cy="6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1292400" y="2225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1285920" y="221472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1330200" y="225432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0076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1895400" y="2824200"/>
            <a:ext cx="5911920" cy="468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341440" y="2166840"/>
            <a:ext cx="56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试流程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474560" y="231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1292400" y="349740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1285920" y="348624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1330200" y="352584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1862280" y="409572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67000" y="343836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机测试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474560" y="35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1292400" y="4754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1285920" y="474336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1330200" y="4782960"/>
            <a:ext cx="663840" cy="574920"/>
          </a:xfrm>
          <a:prstGeom prst="hexagon">
            <a:avLst>
              <a:gd name="adj" fmla="val 28867"/>
              <a:gd name="vf" fmla="val 115470"/>
            </a:avLst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862280" y="535320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2367000" y="469584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测试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1474560" y="4842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20" descr="QQ截图20160825191315.png"/>
          <p:cNvPicPr/>
          <p:nvPr/>
        </p:nvPicPr>
        <p:blipFill>
          <a:blip r:embed="rId1"/>
          <a:stretch/>
        </p:blipFill>
        <p:spPr>
          <a:xfrm>
            <a:off x="5378400" y="596736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注意事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8200" y="1530000"/>
            <a:ext cx="7889760" cy="499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考生正确戴上耳麦，并根据提示音进行试音；测试结束离开座位时，注意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摘下耳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考试试音时，要以正常适中音量朗读试音文字，正式测试的时候朗读音量要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与试音时保持一致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行测试的过程中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手不要触摸麦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同时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避免麦克与面部接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图片 4" descr="QQ截图20160825191315.png"/>
          <p:cNvPicPr/>
          <p:nvPr/>
        </p:nvPicPr>
        <p:blipFill>
          <a:blip r:embed="rId1"/>
          <a:stretch/>
        </p:blipFill>
        <p:spPr>
          <a:xfrm>
            <a:off x="5378400" y="595476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再次提醒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41240" y="1530000"/>
            <a:ext cx="8010720" cy="4600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试题为横向排列，考生朗读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注意横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漏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过程中，考生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不要说与测试无关的内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免影响测试成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读完每一题后，应及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点击下一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下一部分测试，以免录入太多的空白杂音影响测试成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第四题说话部分由人工评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请考生注意不要离题、不要背稿；说话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满三分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后，即可停止答题，结束测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图片 3" descr="QQ截图20160825191315.png"/>
          <p:cNvPicPr/>
          <p:nvPr/>
        </p:nvPicPr>
        <p:blipFill>
          <a:blip r:embed="rId1"/>
          <a:stretch/>
        </p:blipFill>
        <p:spPr>
          <a:xfrm>
            <a:off x="5135400" y="594360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结 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6800" y="3006360"/>
            <a:ext cx="8298000" cy="803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祝大家在测试中取得优异的成绩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图片 3" descr="QQ截图20160825191315.png"/>
          <p:cNvPicPr/>
          <p:nvPr/>
        </p:nvPicPr>
        <p:blipFill>
          <a:blip r:embed="rId1"/>
          <a:stretch/>
        </p:blipFill>
        <p:spPr>
          <a:xfrm>
            <a:off x="5378400" y="594360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测试简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85360" y="1695240"/>
            <a:ext cx="8170920" cy="4748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普通话水平测试分为四个部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第一部分读单音节字词，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音节，限时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5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钟，共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第二部分读多音节词语， 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音节，限时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钟，共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第三部分朗读短文，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音节，限时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钟，共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84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第四部分命题说话，不得少于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钟，共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4" descr="QQ截图20160825191315.png"/>
          <p:cNvPicPr/>
          <p:nvPr/>
        </p:nvPicPr>
        <p:blipFill>
          <a:blip r:embed="rId1"/>
          <a:stretch/>
        </p:blipFill>
        <p:spPr>
          <a:xfrm>
            <a:off x="6056280" y="6105600"/>
            <a:ext cx="349416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：备考室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1680" y="1770120"/>
            <a:ext cx="8142120" cy="4332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宋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考生在备考室准备试题内容，不得在备考室内大声喧哗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宋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得到考务人员上机测试的通知后，进入测试室进行测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图片 3" descr="QQ截图20160825191315.png"/>
          <p:cNvPicPr/>
          <p:nvPr/>
        </p:nvPicPr>
        <p:blipFill>
          <a:blip r:embed="rId1"/>
          <a:stretch/>
        </p:blipFill>
        <p:spPr>
          <a:xfrm>
            <a:off x="5378400" y="599112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：测试室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120" y="1661760"/>
            <a:ext cx="8153640" cy="471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考生进入测试室后即可按照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考试机页面提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开始测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过程中除必要的操作外，考生不得随意设置和操作计算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过程中出现死机等异常现象，考生应报告管理人员进行处理，不要擅自处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测试结束后考生应摘下耳机，轻声离开测试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图片 3" descr="QQ截图20160825191315.png"/>
          <p:cNvPicPr/>
          <p:nvPr/>
        </p:nvPicPr>
        <p:blipFill>
          <a:blip r:embed="rId1"/>
          <a:stretch/>
        </p:blipFill>
        <p:spPr>
          <a:xfrm>
            <a:off x="5378400" y="593100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1292400" y="2225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285920" y="221472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330200" y="225432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0076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1895400" y="2824200"/>
            <a:ext cx="5911920" cy="468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341440" y="2166840"/>
            <a:ext cx="56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试流程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474560" y="231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292400" y="3497400"/>
            <a:ext cx="755640" cy="653760"/>
          </a:xfrm>
          <a:prstGeom prst="hexagon">
            <a:avLst>
              <a:gd name="adj" fmla="val 28896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285920" y="348624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1330200" y="3525840"/>
            <a:ext cx="663840" cy="574560"/>
          </a:xfrm>
          <a:prstGeom prst="hexagon">
            <a:avLst>
              <a:gd name="adj" fmla="val 28885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862280" y="409572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367000" y="343836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计算机测试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474560" y="35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292400" y="475452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285920" y="4743360"/>
            <a:ext cx="755640" cy="654120"/>
          </a:xfrm>
          <a:prstGeom prst="hexagon">
            <a:avLst>
              <a:gd name="adj" fmla="val 28880"/>
              <a:gd name="vf" fmla="val 115470"/>
            </a:avLst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330200" y="4782960"/>
            <a:ext cx="663840" cy="574920"/>
          </a:xfrm>
          <a:prstGeom prst="hexagon">
            <a:avLst>
              <a:gd name="adj" fmla="val 28867"/>
              <a:gd name="vf" fmla="val 115470"/>
            </a:avLst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1862280" y="5353200"/>
            <a:ext cx="6021360" cy="28440"/>
          </a:xfrm>
          <a:prstGeom prst="line">
            <a:avLst/>
          </a:prstGeom>
          <a:ln w="25560">
            <a:solidFill>
              <a:srgbClr val="b2b2b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67000" y="469584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试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474560" y="4842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20" descr="QQ截图20160825191315.png"/>
          <p:cNvPicPr/>
          <p:nvPr/>
        </p:nvPicPr>
        <p:blipFill>
          <a:blip r:embed="rId1"/>
          <a:stretch/>
        </p:blipFill>
        <p:spPr>
          <a:xfrm>
            <a:off x="5378400" y="594360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系统简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8280" y="1676160"/>
            <a:ext cx="7929720" cy="4268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spcBef>
                <a:spcPts val="1599"/>
              </a:spcBef>
              <a:buClr>
                <a:srgbClr val="0000ff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国家普通话水平智能测试系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参加普通话测试考生的考试应用软件，在考试过程中，考生可以按照测试程序的提示，逐步完成考试内容及相关操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完整的操作流程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847800" y="4726080"/>
            <a:ext cx="1584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考生登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168640" y="4726080"/>
            <a:ext cx="45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2562120" y="4699080"/>
            <a:ext cx="2125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核对考生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5067360" y="4686480"/>
            <a:ext cx="992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试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5447880" y="4691160"/>
            <a:ext cx="117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6235560" y="4699080"/>
            <a:ext cx="939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675120" y="4673520"/>
            <a:ext cx="117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7434360" y="4699080"/>
            <a:ext cx="15793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结束测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4610160" y="4705200"/>
            <a:ext cx="45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13" descr="QQ截图20160825191315.png"/>
          <p:cNvPicPr/>
          <p:nvPr/>
        </p:nvPicPr>
        <p:blipFill>
          <a:blip r:embed="rId1"/>
          <a:stretch/>
        </p:blipFill>
        <p:spPr>
          <a:xfrm>
            <a:off x="5378400" y="595476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步：佩戴耳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8280" y="1680840"/>
            <a:ext cx="8077320" cy="4094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考生入座后，考试机屏幕上会提示佩戴耳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考生戴上耳麦，将麦克风调节到离嘴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2-3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厘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距离，注意麦克风在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左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耳麦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头戴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后挂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考生需注意佩戴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戴好耳麦后，即可点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下一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图片 3" descr="QQ截图20160825191315.png"/>
          <p:cNvPicPr/>
          <p:nvPr/>
        </p:nvPicPr>
        <p:blipFill>
          <a:blip r:embed="rId1"/>
          <a:stretch/>
        </p:blipFill>
        <p:spPr>
          <a:xfrm>
            <a:off x="5378400" y="596736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-14400"/>
            <a:ext cx="8118360" cy="1193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佩戴耳麦提示页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594240" y="2585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01带耳机"/>
          <p:cNvPicPr/>
          <p:nvPr/>
        </p:nvPicPr>
        <p:blipFill>
          <a:blip r:embed="rId1"/>
          <a:stretch/>
        </p:blipFill>
        <p:spPr>
          <a:xfrm>
            <a:off x="1973160" y="1719360"/>
            <a:ext cx="5241960" cy="40939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4" descr="QQ截图20160825191315.png"/>
          <p:cNvPicPr/>
          <p:nvPr/>
        </p:nvPicPr>
        <p:blipFill>
          <a:blip r:embed="rId2"/>
          <a:stretch/>
        </p:blipFill>
        <p:spPr>
          <a:xfrm>
            <a:off x="5378400" y="5978520"/>
            <a:ext cx="417204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56:04Z</dcterms:created>
  <dc:creator>徐景明</dc:creator>
  <dc:description/>
  <dc:language>en-US</dc:language>
  <cp:lastModifiedBy>fxl</cp:lastModifiedBy>
  <dcterms:modified xsi:type="dcterms:W3CDTF">2016-10-25T06:12:56Z</dcterms:modified>
  <cp:revision>1606</cp:revision>
  <dc:subject/>
  <dc:title>PowerPoint 演示文稿</dc:title>
</cp:coreProperties>
</file>